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89F01C-69A3-4052-ABA2-0EF3B2962B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8DC63E-79A4-4265-A26D-2D38C7518D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FBBB9E-CB74-49D5-808B-4ADD5DF328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40F05A-19CB-4A28-90A1-4BF6281B3E4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724B74-F6EA-47A8-9165-3212A08A4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AB973B-4991-4A68-BE48-66F010332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735139-063F-410F-81A1-530EF4507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3458A4-2F9D-4B4D-A574-3C9FA800E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8ACBD2-05A3-4F3C-A60F-14D351E54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533520" y="2286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B61EBF-D2FE-4059-B794-FCA9418ED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8716B1-4127-4254-AB98-D760F1C56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925D9A-5250-4F7B-BBB5-A038715846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C7776C-0264-4650-8928-BFFA071AE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24D501-6E5C-42A7-9FA9-071C68953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A21E0C-4F5A-48CE-9B04-45E1B86A3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F2C1EE-570A-4EDD-865A-4E70BF2A1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0421D8-9E4D-4433-8199-08C16AC70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6BFC1B-3F4A-4439-8C92-73241BAFA8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881341-27C0-449E-B4AD-43333B4951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C389BA-58BE-4981-A9A6-5DD392CB53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33520" y="2286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78E688-204A-4C6E-A898-A3EA091C0F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0A0E8A-79A2-4F84-98B1-B3CFC2F2A2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D8FEC7-4095-4896-9692-F200F32DBD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BF943F-A03A-4F88-A593-CCDE07FB86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520" y="6172200"/>
            <a:ext cx="4953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CE29F-77FD-47BC-854E-6A0CC7E9ADC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3FEB8-AB1C-4466-87F0-18358EC7BB2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9520" y="1904760"/>
            <a:ext cx="487692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Quality Manual Structure and Cont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" name="Picture 11" descr="HHS-Logo-blue"/>
          <p:cNvPicPr/>
          <p:nvPr/>
        </p:nvPicPr>
        <p:blipFill>
          <a:blip r:embed="rId1"/>
          <a:stretch/>
        </p:blipFill>
        <p:spPr>
          <a:xfrm>
            <a:off x="41148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" descr="2BSLATH"/>
          <p:cNvPicPr/>
          <p:nvPr/>
        </p:nvPicPr>
        <p:blipFill>
          <a:blip r:embed="rId2"/>
          <a:stretch/>
        </p:blipFill>
        <p:spPr>
          <a:xfrm>
            <a:off x="4876920" y="6172200"/>
            <a:ext cx="761760" cy="5493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6" descr="WHO-EN-C-H"/>
          <p:cNvPicPr/>
          <p:nvPr/>
        </p:nvPicPr>
        <p:blipFill>
          <a:blip r:embed="rId3"/>
          <a:stretch/>
        </p:blipFill>
        <p:spPr>
          <a:xfrm>
            <a:off x="5715000" y="6172200"/>
            <a:ext cx="1828800" cy="560520"/>
          </a:xfrm>
          <a:prstGeom prst="rect">
            <a:avLst/>
          </a:prstGeom>
          <a:ln w="0">
            <a:noFill/>
          </a:ln>
        </p:spPr>
      </p:pic>
      <p:grpSp>
        <p:nvGrpSpPr>
          <p:cNvPr id="108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09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1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2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2" name=""/>
          <p:cNvSpPr/>
          <p:nvPr/>
        </p:nvSpPr>
        <p:spPr>
          <a:xfrm>
            <a:off x="3581280" y="1828800"/>
            <a:ext cx="495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Visual Ai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7EC158-E0E4-4BA4-B890-7FB53E808B3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93840" y="946080"/>
            <a:ext cx="8356320" cy="4965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0D2CF6-7348-483B-A6A2-E8E1351C2BA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03040" y="546120"/>
            <a:ext cx="8737920" cy="5765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D6010D-FF9E-4AEC-A7D6-2A035418F5A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90440" y="635040"/>
            <a:ext cx="8763120" cy="5587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2CBCA0-9587-4D49-AD13-154FCBBD915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38240" y="550800"/>
            <a:ext cx="8866080" cy="5754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80696F-E201-426C-B724-C96EE51F61A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209680" y="457200"/>
            <a:ext cx="4459320" cy="5838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B903DD-51E3-472A-8C11-3887DB9DF0E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438280" y="457200"/>
            <a:ext cx="4232520" cy="5486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C59303-1E6C-4873-A96D-5132915513A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2T22:26:15Z</dcterms:created>
  <dc:creator>Robin Barteluk</dc:creator>
  <dc:description/>
  <dc:language>en-US</dc:language>
  <cp:lastModifiedBy>bergera</cp:lastModifiedBy>
  <dcterms:modified xsi:type="dcterms:W3CDTF">2009-05-19T09:59:36Z</dcterms:modified>
  <cp:revision>2</cp:revision>
  <dc:subject/>
  <dc:title>Quality Manual Structure and Contents</dc:title>
</cp:coreProperties>
</file>